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5416-5722-4BC2-8F7D-7B7511BA6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A8E3-9359-416B-86B9-F55344B1B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C19A-2B85-4C9D-A633-352E07056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5CD5-002C-4E26-BD00-06A1940B1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2977-83DB-4E15-B80A-CB7C7A7FC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FF79-EC05-4406-9D96-CE756E05C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96F4-499C-400A-A0BB-9FA338D1C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9C78-1FCE-4EBE-ABE5-C52E46BD4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3084-7A59-4DD8-88EC-5A3AD0BAF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9309-1656-473C-B621-80AE3F5C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6F00-70D0-49EE-A350-89CEF8CA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FCA6-605B-448A-A70C-11C578E4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AF6A1-E255-4051-BB15-FCDA927ABD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295280"/>
          <a:ext cx="8610120" cy="4800600"/>
        </p:xfrm>
        <a:graphic>
          <a:graphicData uri="http://schemas.openxmlformats.org/drawingml/2006/table">
            <a:tbl>
              <a:tblPr/>
              <a:tblGrid>
                <a:gridCol w="2869920"/>
                <a:gridCol w="2869920"/>
                <a:gridCol w="2870280"/>
              </a:tblGrid>
              <a:tr h="129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Bradley Hand ITC"/>
                        </a:rPr>
                        <a:t>Iso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ton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Sol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Bradley Hand ITC"/>
                        </a:rPr>
                        <a:t>Hypo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ton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Sol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Bradley Hand ITC"/>
                        </a:rPr>
                        <a:t>Hyper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tonic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Sol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cell stays the s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cell swel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cell shrin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0880" y="2895480"/>
            <a:ext cx="2438640" cy="1554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85800" y="30492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Osmo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666880" cy="1649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095880" y="2895480"/>
            <a:ext cx="251460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7:54:43Z</dcterms:created>
  <dc:creator>AISD</dc:creator>
  <dc:description/>
  <dc:language>en-US</dc:language>
  <cp:lastModifiedBy>AISD</cp:lastModifiedBy>
  <dcterms:modified xsi:type="dcterms:W3CDTF">2009-11-18T18:09:19Z</dcterms:modified>
  <cp:revision>2</cp:revision>
  <dc:subject/>
  <dc:title>Slide 1</dc:title>
</cp:coreProperties>
</file>